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75231"/>
        <c:axId val="56878001"/>
      </c:barChart>
      <c:catAx>
        <c:axId val="90075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78001"/>
        <c:crosses val="autoZero"/>
        <c:auto val="1"/>
        <c:lblAlgn val="ctr"/>
        <c:lblOffset val="100"/>
        <c:noMultiLvlLbl val="0"/>
      </c:catAx>
      <c:valAx>
        <c:axId val="56878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75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B61-962B-45FA-B25F-6BDE2FFB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45A-C0CA-420F-92DE-98F3BBBB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C2B-D88B-43B3-83FB-94EC59E9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578-5C91-4838-A467-CFA87DF0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6F8-359F-4863-8F87-BC421D74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87F-22AE-4DBF-87E0-D35FA42F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FC7-7F8D-43D5-9187-6C265F56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B96-6D90-4497-B242-39A4B3C4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FE8-D791-4080-8827-E42174E7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327-F0AB-4CFC-97E7-25B3CAC8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AAE-BA4C-461F-AA16-DD467DC2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F3C-8FE4-465E-8A72-315E0ECB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DD566-4254-4DBB-8486-2FCFBD9645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